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FA7-3953-4DF0-B732-5AE8B2D1A91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33A4-7666-4698-99D0-FA0DC7400EF9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D0F-59F7-4DF5-B4CD-DA0FAE947738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FEC-C132-4DCC-A32C-463704F80CE9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90A4-24B0-4A82-BA00-CCA5E487378B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98B7-A813-40F9-AA29-F782B819B6EA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14A-24A1-4AD2-B93E-6F4509CFE820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DC7C-45AC-47D7-99F7-CA09C6AF001B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A9F5-78C8-419B-8F5F-55653C4331A6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BA80-BDAB-4D91-8E5A-BF41960FB5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705B-E567-4665-930B-07EF7BE79B54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A2F8-F31F-4ECE-A60C-5581A6F4FC3E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61E0-DB66-4409-9FE1-0A0168CA372B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87E7-3959-481E-8A8F-A176A2629EBE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D66B-889E-4FA5-8742-EF94896EF183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A4B-40C2-4909-9BF4-058BF3A83AB1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A44-E972-43A8-8468-2F62DDAB36E4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E77E-3C25-4726-9840-9C16B9CEAB51}" type="slidenum">
              <a:rPr b="0" lang="es-P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528-4E87-4539-9502-65FEDCA6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02A-1181-4E60-996F-0CDDCC7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67F-D586-483B-8956-9B82D407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078-1099-4851-823E-C6E68EA3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47C6-B162-46F5-AA39-42A2D4F4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C37-8517-47F0-AD21-92A55AC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2D7-923C-49CC-8EC0-53A3EA42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79E6-AB17-446E-9486-D37B83BD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9925-46F6-45AE-9EF1-F0FADB4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CF49-78F2-4CCA-9ED2-68543AD6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AFBD-6868-49E3-9267-BF03920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628-2D54-4CE1-A360-BD0AA607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BE8E-3A22-47B5-A657-55C7E08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C259-8EFA-4CD1-9DE4-BD7F997F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1591-031B-4A9E-A4D1-DD2A915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BF4A-CDFF-4B6D-B500-9121E089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C964-2304-4C62-9D2A-9F1F6A15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A9C-4208-4242-84BD-F4F3AE0E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3646-4029-43CE-A2EE-CD8C872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17D-4E1A-4F74-86A9-91EB8003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C2C-86A3-46D0-95B7-627A90C2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8CA8-0794-4C6E-B75C-D597311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874-815E-446D-B13B-F776860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187-5F79-4CB6-B45E-00314FA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C409-85CF-434A-89FA-04D2521AFD8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4C2-B674-4D02-B7E2-C1F552DC469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omic Sans MS"/>
              </a:rPr>
              <a:t>DEFINIENDO EDUCA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ra. Yolanda Ramírez Villaco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6"/>
          <p:cNvSpPr/>
          <p:nvPr/>
        </p:nvSpPr>
        <p:spPr>
          <a:xfrm>
            <a:off x="1763640" y="3500280"/>
            <a:ext cx="6912000" cy="27370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mic Sans MS"/>
              </a:rPr>
              <a:t>FUNCIONES INDIVIDUALES DE LA EDUCAC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5582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DESARROLLO INTEGRAL DE LA PERSONALIDA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SOCIALIZACION DEL INDIVIDUO (ADAPTACION AL MEDIO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ENRIQUECIMIENTO CON CONOCIMIENTOS, HABILIDADES Y BUENAS COSTUMBR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763640" y="3645000"/>
            <a:ext cx="6624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mic Sans MS"/>
              </a:rPr>
              <a:t>LA EDUCACION MEJORA EN LOS INDIVIDUOS SU DESTREZA INTELECTUAL, SU PODER DE RAZONAMIENTO Y DE CRITICA, SUS ACTITUDES Y MOTIVACIONES, SU CAPACIDAD DE CREATIVIDAD E INNOVACION, SU SENTIDO DE RESPONSABILIDAD SOCIAL Y SU COMPRENSION DEL MUND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79930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FUNCIONES SOCIALES DE LA EDUCAC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909360"/>
            <a:ext cx="83534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27009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FUNCION DE ADAPTACION DEL INDIVIDUO A LAS EXIGENCIAS DEL GRUPO SOCIAL: SOCIALIZACION DEL INDIVIDUO.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DE ASEGURAR UNA CONTINUIDAD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DE INTRODUCIR EL CAMBIO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PACITACION PROFESIONAL DE LOS INDIVIDU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ECONOMICA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POLIT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s-ES_tradnl" sz="2000" spc="-1" strike="noStrike">
                <a:solidFill>
                  <a:srgbClr val="000000"/>
                </a:solidFill>
                <a:latin typeface="Comic Sans MS"/>
              </a:rPr>
              <a:t>FUNCION DE CONTROL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FUNCION DE HOMOGENIZACION Y DE SELECCION SOC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LA EDUCACION PROMUEVE EL PROGRESO HUMANO DE LA SOCIEDAD: LA EDUCACION AL PERFECCIONAR AL INDIVIDUO, PERFECCIONA AL GRUPO. LA EDUCACION LLEVARA A LA CONSTRUCCION DE LA SOCIEDAD PERFECTA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4" descr=""/>
          <p:cNvPicPr/>
          <p:nvPr/>
        </p:nvPicPr>
        <p:blipFill>
          <a:blip r:embed="rId1"/>
          <a:stretch/>
        </p:blipFill>
        <p:spPr>
          <a:xfrm>
            <a:off x="658800" y="712800"/>
            <a:ext cx="79916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14 Rectángulo"/>
          <p:cNvSpPr/>
          <p:nvPr/>
        </p:nvSpPr>
        <p:spPr>
          <a:xfrm>
            <a:off x="2000160" y="5715000"/>
            <a:ext cx="2643120" cy="85716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4427640" y="1341360"/>
            <a:ext cx="3240000" cy="11509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84360" y="1341360"/>
            <a:ext cx="3240000" cy="11509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5388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TIPOS DE EDUCAC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294984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ON NATU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00720" y="1413000"/>
            <a:ext cx="331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Comic Sans MS"/>
              </a:rPr>
              <a:t>EDUCACION DIRIGI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84360" y="328464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directa, en contacto con la naturaleza, que es el libro de la enseñanza: aprender-hacien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148360" y="2925720"/>
            <a:ext cx="388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formal o escolariz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364000" y="4076640"/>
            <a:ext cx="331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No f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2000160" y="5632560"/>
            <a:ext cx="3024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Educación Inform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050920" y="2565360"/>
            <a:ext cx="505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Freeform 15"/>
          <p:cNvSpPr/>
          <p:nvPr/>
        </p:nvSpPr>
        <p:spPr>
          <a:xfrm>
            <a:off x="4643280" y="2492280"/>
            <a:ext cx="406440" cy="7923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4572000" y="2637000"/>
            <a:ext cx="863640" cy="1728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16112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ESCOLARIZAD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52640" y="1828800"/>
            <a:ext cx="769608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Se maneja con los siguientes componen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Contenido educativo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planes y programas de estudios o de enseñanza, currícu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Educando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alumno, estudian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Educador 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(incluye el método… puede denominarse maestro, profesor, catedrático, normalista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170058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170058"/>
                </a:solidFill>
                <a:latin typeface="Comic Sans MS"/>
              </a:rPr>
              <a:t>Institución</a:t>
            </a: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 (escuela, que incluye dirección y administración y puede contar con personal no docente y con recursos materiales y financier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NO FORM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7760" y="1197000"/>
            <a:ext cx="78422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Comic Sans MS"/>
              </a:rPr>
              <a:t>Mantiene los mismos componentes de la anterior, pero en forma distinta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contenido educativo que no se denomina planes y programa de estudios o curriculum, pero existe y es asimil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sujeto que es educado y que no necesariamente se llama alumno y no está “matriculado” en escue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 sujeto que educa y que no necesariamente se llama profesor aunque de modo frecuente se le dice maestro o profeso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Una o varias instituciones, organizaciones, ambientes o lugares que no son escuelas, que no son instituciones especialmente montadas para educar y enseñar pero que sirven a fines educativos, que pueden contar con recursos materiales, económicos o financieros, poco o mucho, propio y/o aje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 INFORM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1800" y="171612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No responde a un programa o plan de estudios, responde a necesidades de conocimien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No es sistemática, no está calendariza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Todos enseñan y todos aprend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La evaluación del aprendizaje es práctica y vivenc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tá presente en todo momento y a lo largo de toda la vid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3 Rectángulo" descr=""/>
          <p:cNvPicPr/>
          <p:nvPr/>
        </p:nvPicPr>
        <p:blipFill>
          <a:blip r:embed="rId1"/>
          <a:stretch/>
        </p:blipFill>
        <p:spPr>
          <a:xfrm>
            <a:off x="1066680" y="1420920"/>
            <a:ext cx="6066000" cy="3475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ains-05"/>
          <p:cNvPicPr/>
          <p:nvPr/>
        </p:nvPicPr>
        <p:blipFill>
          <a:blip r:embed="rId2"/>
          <a:stretch/>
        </p:blipFill>
        <p:spPr>
          <a:xfrm>
            <a:off x="5786280" y="4000680"/>
            <a:ext cx="2286000" cy="2071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1992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ALGUNAS DEFINICIONES “populares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ir a la escuela para aprender y, así, ganarse la vida (obrer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la formación del ser humano de acuerdo con sus posibilidades económicas con el fin de hacerse entender en la sociedad (emplead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la base fundamental a la que se someten los hombres para desarrollarse material y espiritualmente y poder desempeñar cualquier cargo, oficio u ocupación (profes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una ciencia que se ocupa del estudio de la formación integral del educando o del individuo en general (catedrát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19928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Comic Sans MS"/>
              </a:rPr>
              <a:t>ALGUNAS DEFINICIONES “populares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el proceso mediante el cual se da a los educandos los valores de la cultura para su realización plena … es el proceso mediante el cual se prepara al hombre para realizar una vida libre (profesor y catedrát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ducación es adquirir una cultura para así poder hacer frente a la vida (funcionari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1049"/>
              </a:spcAft>
              <a:buClr>
                <a:srgbClr val="000000"/>
              </a:buClr>
              <a:buFont typeface="Web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Comic Sans MS"/>
              </a:rPr>
              <a:t>Es un instrumento de la clase social mediante el cual se impone determinada ideología de acuerdo con los conceptos culturales y morales de la clase que domina una sociedad (estudiante de educació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3419640" y="3789360"/>
            <a:ext cx="5046480" cy="2808360"/>
          </a:xfrm>
          <a:prstGeom prst="roundRect">
            <a:avLst>
              <a:gd name="adj" fmla="val 16667"/>
            </a:avLst>
          </a:prstGeom>
          <a:blipFill rotWithShape="0">
            <a:blip r:embed="rId1">
              <a:alphaModFix amt="44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276720" y="476280"/>
            <a:ext cx="5094000" cy="29527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247680" y="2565360"/>
            <a:ext cx="2328840" cy="168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324000" y="2565360"/>
            <a:ext cx="222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UCAR DERIVA DE DOS VERBOS LATIN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3419640" y="692280"/>
            <a:ext cx="489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DUCA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SIGNIFICA ALIMENTAR, CRIAR, NUTRIR. EN ESTE SENTIDO, EDUCACION ETIMOLOGICAMENTE SE REFIERE A LA ADAPTACION DEL HOMBRE, DONDE TIENE MAYOR IMPORTANCIA LA INFLUENCIA DE LA SOCIEDAD SOBRE EL INDIVIDU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3419640" y="3994200"/>
            <a:ext cx="50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70096"/>
                </a:solidFill>
                <a:latin typeface="Arial"/>
              </a:rPr>
              <a:t>EX-DUCERE</a:t>
            </a:r>
            <a:r>
              <a:rPr b="0" lang="es-ES_tradnl" sz="2000" spc="-1" strike="noStrike">
                <a:solidFill>
                  <a:srgbClr val="270096"/>
                </a:solidFill>
                <a:latin typeface="Arial"/>
              </a:rPr>
              <a:t>: </a:t>
            </a:r>
            <a:r>
              <a:rPr b="1" i="1" lang="es-ES_tradnl" sz="2000" spc="-1" strike="noStrike">
                <a:solidFill>
                  <a:srgbClr val="270096"/>
                </a:solidFill>
                <a:latin typeface="Arial"/>
              </a:rPr>
              <a:t>QUE SIGNIFICA DESARROLLAR, CRECER. EN ESTE SENTIDO, EDUCACION SE REFIERE AL PROCESO DE CREACION, DE PERSONALIZACION INDIVIDUALISTA, DONDE SE BUSCA QUE EL INDIVIDUO REALICE INNOVACIONES HISTORICO-SOCI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2627280" y="2370240"/>
            <a:ext cx="335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627280" y="3789360"/>
            <a:ext cx="50472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TROS CONCEPTOS DE EDUCAC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458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ESTALOZZI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270096"/>
                </a:solidFill>
                <a:latin typeface="Comic Sans MS"/>
              </a:rPr>
              <a:t>la educación es el desarrollo natural, progresivo y sistemático de todas las facultades del homb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. KANT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educación tiene por finalidad el desarrollo del hombre para su perfec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LATON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Comic Sans MS"/>
              </a:rPr>
              <a:t>la educación tiene por finalidad dar al cuerpo y al alma toda la belleza y perfección po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PENCER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educación es la preparación para la vida, forma al hombre tanto en su cuerpo como en su carácter para que sirva a la familia y a la socieda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DURKHEIM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000" spc="-1" strike="noStrike">
                <a:solidFill>
                  <a:srgbClr val="660066"/>
                </a:solidFill>
                <a:latin typeface="Comic Sans MS"/>
              </a:rPr>
              <a:t>la educación es la acción de los adultos sobre los jóvenes, de las generaciones ya formadas sobre las que aun no lo están para prepararlos para la vida soci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Comic Sans MS"/>
              </a:rPr>
              <a:t>EDUCACION: parte de la realidad objetiv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03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Comic Sans MS"/>
              </a:rPr>
              <a:t>La educación es quehacer humano, es actividad concreta del hombre concreto y, por ser así, es eminentemente soci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Comic Sans MS"/>
              </a:rPr>
              <a:t>La historia de la educación es parte de la historia del hombre, del proceso de desarrollo de la sociedad, real y concret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611280" y="762120"/>
            <a:ext cx="784836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N TERMINOS GENERALES EDUCACION SE REFIERE A LA ACCION ORIENTADA A DESARROLLAR LAS FACULTADES FISICAS, ESPIRITUALES E INTELECTUALES DE LOS INDIVIDUOS MOLDEANDO SU PERSONALIDAD PARA SU INTEGRACION A LA SOCIEDAD; PERO, TAMBIEN PARA PROMOVER EL CAMBIO Y LA INNOVAC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170058"/>
                </a:solidFill>
                <a:latin typeface="Comic Sans MS"/>
              </a:rPr>
              <a:t>EL OBJETIVO PRINCIPAL DE LA EDUCACION ES LA TRANSMISION DEL CONTENIDO CULTURAL DE LA SOCIEDAD Y LA FORMA COMO SE TRANSMITE ESTA DETERMINADA POR LOS PATRONES CULTURALES DEL GRUPO SOCI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L SISTEMA EDUCATIVO RESPONDE A LAS PARTICULARIDADES DE LAS CONDICIONES ECONOMICAS Y SOCIALES EN DONDE SE DESARRO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270096"/>
              </a:buClr>
              <a:buSzPct val="1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4"/>
          <p:cNvSpPr/>
          <p:nvPr/>
        </p:nvSpPr>
        <p:spPr>
          <a:xfrm>
            <a:off x="4427640" y="4437000"/>
            <a:ext cx="3673440" cy="1656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4356000" y="2565360"/>
            <a:ext cx="4176720" cy="1440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4211640" y="476280"/>
            <a:ext cx="3673440" cy="122400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18160" y="468936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ARANTIZA LA SOCIALIZACION DE LOS INDIVIDU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11280" y="206064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50920" y="29941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DU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356000" y="6922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CESO QUE DURA TODA LA VI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500720" y="2822400"/>
            <a:ext cx="41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BUSCA LA FORMACION INTEGRAL DEL HOMB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9"/>
          <p:cNvSpPr/>
          <p:nvPr/>
        </p:nvSpPr>
        <p:spPr>
          <a:xfrm rot="18675600">
            <a:off x="2446920" y="1735560"/>
            <a:ext cx="2016360" cy="360360"/>
          </a:xfrm>
          <a:custGeom>
            <a:avLst/>
            <a:gdLst>
              <a:gd name="textAreaLeft" fmla="*/ 252000 w 2016360"/>
              <a:gd name="textAreaRight" fmla="*/ 1764360 w 201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"/>
          <p:cNvSpPr/>
          <p:nvPr/>
        </p:nvSpPr>
        <p:spPr>
          <a:xfrm rot="2803800">
            <a:off x="2591280" y="4328280"/>
            <a:ext cx="2016360" cy="360360"/>
          </a:xfrm>
          <a:custGeom>
            <a:avLst/>
            <a:gdLst>
              <a:gd name="textAreaLeft" fmla="*/ 252000 w 2016360"/>
              <a:gd name="textAreaRight" fmla="*/ 1764360 w 201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3059280" y="3213000"/>
            <a:ext cx="1081080" cy="21600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324000" y="692280"/>
            <a:ext cx="806436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270096"/>
                </a:solidFill>
                <a:latin typeface="Eurostile"/>
              </a:rPr>
              <a:t>HAY UNA ESTRECHA RELACION ENTRE SOCIED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270096"/>
                </a:solidFill>
                <a:latin typeface="Eurostile"/>
              </a:rPr>
              <a:t>Y EDUCACION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COMO DICE RENE HUBERT EN SU OBRA "TRATADO DE PEDAGOGIA GENERAL" (BUENOS AIRES, 1963)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000000"/>
                </a:solidFill>
                <a:uFillTx/>
                <a:latin typeface="Eurostile"/>
              </a:rPr>
              <a:t>NO HAY SOCIEDAD SIN EDUCACION, NI EDUCACION SIN SOCIEDAD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O EN PALABRAS DE NASSIF, EN SU OBRA PEDAGOGIA GENERAL (BUENOS AIRES, 1958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just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 u="sng">
                <a:solidFill>
                  <a:srgbClr val="270096"/>
                </a:solidFill>
                <a:uFillTx/>
                <a:latin typeface="Eurostile"/>
              </a:rPr>
              <a:t>LA EDUCACION ES SOCIALIZADORA Y LA SOCIEDAD ES EDUCADORA</a:t>
            </a:r>
            <a:r>
              <a:rPr b="0" lang="es-ES_tradnl" sz="26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22:08:39Z</dcterms:created>
  <dc:creator>Jaime Nalvarte Armas</dc:creator>
  <dc:description/>
  <dc:language>en-US</dc:language>
  <cp:lastModifiedBy>Yolita</cp:lastModifiedBy>
  <dcterms:modified xsi:type="dcterms:W3CDTF">2009-05-16T13:58:29Z</dcterms:modified>
  <cp:revision>46</cp:revision>
  <dc:subject/>
  <dc:title>DEFINIENDO EDUCACION</dc:title>
</cp:coreProperties>
</file>